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6C11-0177-44B1-872B-A67130AF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C154-6BFD-4EC0-B58A-23DB84EC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801D-1932-4925-A6F3-DEEB7379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33FF-A871-47FA-AC95-BFFE881F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F9D8-EF85-4246-AF14-1DBE7B0C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6C1-F515-4E2B-8066-C4AE1451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9536-7A07-4C5A-832C-E66B111C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C4AC-ADCF-48D7-AFDF-2E152CA9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E61-335A-4584-8EC1-E674C1CC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A89-E191-46B7-A33F-57D32BB2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574-665B-4C79-9538-A339C58C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0B2-C58B-4522-9C6F-FCCB3BD9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D8CB-9E0A-410F-8CE1-453530C2C8EB}" type="datetime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E38E-FDC2-4915-A0F0-AA8950BD5F8D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02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System concepts and architecture team overview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ascal Lefè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 RD S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2.05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al areas of work (text version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Dietrich Olf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Explorer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ecurity App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tent Mgr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ecur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RM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ataba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Gerald Stöck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ial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Messag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Tel. Serv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PS Termina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alf Kaisl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Multi Media Frame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Audio Policy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Voice Contro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dec Manageme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OS Kerne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al areas of work (text version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Martin Kold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IP Protoco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Mgm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(OS Layer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H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Klaus Zapp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Theme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tartup/Mode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ustomiza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Appl. Frame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ync Servic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evice Mgm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Widget Lib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al areas of work (text version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Jürgen Riepe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Bootcor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Non Consumer Driv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ustomized Driv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ccessor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Hans-Geog Kell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Base Ban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Gerhard Zell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2G, 2.5G, 3G RF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FM-Ra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ntenna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Roland Djermest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GSM/UMTS PS Stac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 Rout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al areas of work (text version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Sven Pann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Jav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Ulrich Hub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torag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ower Mgm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or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torage H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enso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Michael Scheithau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amer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Vide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DVB-H, DAB, DMB, TV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ulti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W acc. Multi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e - Cross cutting issu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ory footprint 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ven Pan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ode size RAM, RO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Heap siz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emory consumption for application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erformance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alf Oberheim</a:t>
            </a:r>
            <a:r>
              <a:rPr b="0" lang="en-US" sz="2000" spc="-1" strike="noStrike" u="sng">
                <a:solidFill>
                  <a:srgbClr val="3a0e66"/>
                </a:solidFill>
                <a:uFillTx/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System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ulti media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chael Scheithau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ower consumption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Ulrich Huber (acting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Overall targets for platform provider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ition of target corridor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Guidelines for usage concep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Exception handling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Jürgen Riepe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ccessories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Jürgen Riepe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etwork Protocols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artin Kold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Number of implementations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ook and Feel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ven Pan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ustomization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ven Pan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IPI standardization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Uwe Hebd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echnology cluster mapp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4000" y="1125360"/>
          <a:ext cx="8305560" cy="461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8305560" cy="46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New technologies – Contribu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arget: Make innovation quick, everywhere available with high re-use of development effor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llect and drive new ideas coming from technical reason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e evaluation/filtering of new topic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6784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erformance Lab</a:t>
            </a:r>
            <a:br>
              <a:rPr sz="32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ptions and how it is handled toda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755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Identification of “Worst Case” Scenario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Anticipation of System Performance can be based on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alcul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upplier Inquiri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Estimation based on measurement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Incorporation to M</a:t>
            </a:r>
            <a:r>
              <a:rPr b="0" lang="en-US" sz="3200" spc="-1" strike="noStrike">
                <a:solidFill>
                  <a:srgbClr val="3a0e66"/>
                </a:solidFill>
                <a:latin typeface="Symbol"/>
                <a:ea typeface="Symbol"/>
              </a:rPr>
              <a:t>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and P</a:t>
            </a:r>
            <a:r>
              <a:rPr b="0" lang="en-US" sz="3200" spc="-1" strike="noStrike">
                <a:solidFill>
                  <a:srgbClr val="3a0e66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erformance Lab - Identification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13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utting edge applications in terms of computing performance  ar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ainly multimedia application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mplex scenario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herefore involve many component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Worst Case Scenarios are worked out in conjunction with CPM and T-Manage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a0e66"/>
                </a:solidFill>
                <a:latin typeface="Minion"/>
              </a:rPr>
              <a:t>e.g. „Video streaming of a music clip</a:t>
            </a:r>
            <a:r>
              <a:rPr b="0" i="1" lang="en-US" sz="2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i="1" lang="en-US" sz="2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i="1" lang="en-US" sz="2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i="1" lang="en-US" sz="2800" spc="-1" strike="noStrike">
                <a:solidFill>
                  <a:srgbClr val="3a0e66"/>
                </a:solidFill>
                <a:latin typeface="Minion"/>
              </a:rPr>
              <a:t> (H.264 QCIF 30fps, eAAC+), displayed rotated and scaled , with Bluetooth stereo headset in use“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erformance Lab – Calculation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446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PU Performance estimations are based on calculations with facts and experience under consideration of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ache hit rat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emory frequenc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us frequenc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PU frequenc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emory access times (depending on external memory interface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432320" y="1841400"/>
          <a:ext cx="4292640" cy="439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32320" y="1841400"/>
                    <a:ext cx="429264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179280" y="1844640"/>
            <a:ext cx="3745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076640"/>
            <a:ext cx="1655640" cy="936720"/>
          </a:xfrm>
          <a:prstGeom prst="ellipse">
            <a:avLst/>
          </a:prstGeom>
          <a:solidFill>
            <a:srgbClr val="cc99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IF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CA setup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1341360"/>
            <a:ext cx="3168720" cy="4392720"/>
          </a:xfrm>
          <a:custGeom>
            <a:avLst/>
            <a:gdLst>
              <a:gd name="textAreaLeft" fmla="*/ 154440 w 3168720"/>
              <a:gd name="textAreaRight" fmla="*/ 3014280 w 3168720"/>
              <a:gd name="textAreaTop" fmla="*/ 154440 h 4392720"/>
              <a:gd name="textAreaBottom" fmla="*/ 4238280 h 4392720"/>
            </a:gdLst>
            <a:ahLst/>
            <a:rect l="textAreaLeft" t="textAreaTop" r="textAreaRight" b="textAreaBottom"/>
            <a:pathLst>
              <a:path w="21600" h="29943">
                <a:moveTo>
                  <a:pt x="3600" y="0"/>
                </a:moveTo>
                <a:arcTo wR="3600" hR="3600" stAng="16200000" swAng="-5400000"/>
                <a:lnTo>
                  <a:pt x="0" y="26343"/>
                </a:lnTo>
                <a:arcTo wR="3600" hR="3600" stAng="10800000" swAng="-5400000"/>
                <a:lnTo>
                  <a:pt x="18000" y="299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Generation &amp; Family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Platform road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Minion"/>
                <a:ea typeface="Arial Unicode MS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  <a:ea typeface="Arial Unicode MS"/>
              </a:rPr>
              <a:t>Product to platform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  <a:ea typeface="Arial Unicode MS"/>
              </a:rPr>
              <a:t>M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  <a:ea typeface="Arial Unicode MS"/>
              </a:rPr>
              <a:t>Family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67280" y="1341360"/>
            <a:ext cx="4176720" cy="4392720"/>
          </a:xfrm>
          <a:custGeom>
            <a:avLst/>
            <a:gdLst>
              <a:gd name="textAreaLeft" fmla="*/ 203760 w 4176720"/>
              <a:gd name="textAreaRight" fmla="*/ 3972960 w 4176720"/>
              <a:gd name="textAreaTop" fmla="*/ 203760 h 4392720"/>
              <a:gd name="textAreaBottom" fmla="*/ 4188960 h 4392720"/>
            </a:gdLst>
            <a:ahLst/>
            <a:rect l="textAreaLeft" t="textAreaTop" r="textAreaRight" b="textAreaBottom"/>
            <a:pathLst>
              <a:path w="21600" h="22717">
                <a:moveTo>
                  <a:pt x="3600" y="0"/>
                </a:moveTo>
                <a:arcTo wR="3600" hR="3600" stAng="16200000" swAng="-5400000"/>
                <a:lnTo>
                  <a:pt x="0" y="19117"/>
                </a:lnTo>
                <a:arcTo wR="3600" hR="3600" stAng="10800000" swAng="-5400000"/>
                <a:lnTo>
                  <a:pt x="18000" y="227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Generic platform/product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Architecture road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&amp;D 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3357720"/>
            <a:ext cx="4032000" cy="201600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Feasibility 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everse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Performance 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Technical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New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erformance Lab – Supplier Inquiries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000680" y="1409760"/>
          <a:ext cx="4952880" cy="46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1409760"/>
                    <a:ext cx="495288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179280" y="1197000"/>
            <a:ext cx="3888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ollection of the worst case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onsistency check of the reply with consideration of the suppliers architecture and partitioning ( CPU, DSPs, HW acc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4076640"/>
            <a:ext cx="1655640" cy="936720"/>
          </a:xfrm>
          <a:prstGeom prst="ellipse">
            <a:avLst/>
          </a:prstGeom>
          <a:solidFill>
            <a:srgbClr val="cc99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151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erformance Lab – Estimation based on measurements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Extrapolation of “Worst Case” Scenarios on advanced platform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( e.g. QCT 6280 ) based on measurements on existing platforms ( e.g. QCT 6250 )under consideration of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hanged CPU cloc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hanged architectur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hanged memory syste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…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43280" y="836640"/>
          <a:ext cx="3797280" cy="50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836640"/>
                    <a:ext cx="3797280" cy="50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6084720" y="4292640"/>
            <a:ext cx="1656000" cy="936720"/>
          </a:xfrm>
          <a:prstGeom prst="ellipse">
            <a:avLst/>
          </a:prstGeom>
          <a:solidFill>
            <a:srgbClr val="cc99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IF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Generation &amp; Family strategy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</a:t>
            </a:r>
            <a:r>
              <a:rPr b="1" lang="en-US" sz="4000" spc="-1" strike="noStrike" baseline="-25000">
                <a:solidFill>
                  <a:srgbClr val="3a0e66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 Outpu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90792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e platform (SW + HW) portfolio incl. a mapping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Arial"/>
              </a:rPr>
              <a:t>A market introduction strategy (only for revolutionary step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Arial"/>
              </a:rPr>
              <a:t>A R&amp;D migration plan (only for revolutionary step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Arial"/>
              </a:rPr>
              <a:t>A level 1 architecture document („50 boxes“ with 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black box / modify / implement areas and maintained interface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lus all the input data and market data which the decision is based 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1593720"/>
            <a:ext cx="1654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198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181440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upported 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ifferentiation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M</a:t>
            </a:r>
            <a:r>
              <a:rPr b="1" lang="el-GR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α</a:t>
            </a:r>
            <a:r>
              <a:rPr b="1" lang="de-DE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ontribu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latform assign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Initial component selection (reduction of sourcing complexity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Development site proposal (by platform assignment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duct profile and portfolio align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Identify key development issues (e.g.: DRM solutions, context sensitive UI, USB HS, landscape mode, second display usage, virtual slider, …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General” technical feasibility and performance check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edevelopment setup (for detailed feasibility studies and long term issue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M</a:t>
            </a:r>
            <a:r>
              <a:rPr b="1" lang="el-GR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α</a:t>
            </a:r>
            <a:r>
              <a:rPr b="1" lang="de-DE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Outpu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duct overview provided to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curement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OM calculatio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PM and TPM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roduct definition (in terms of technology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roduct profile alignme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R&amp;D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Resource and budget plann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General” feasibility and performance statement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edevelopment Description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Architecture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e roadmap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122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s is the „M1-document for the product plat-form“ and comprises the following chapters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op-Level Architectur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ystem Decomposi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Black Box / Modify / Implement Area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Requirements and CRC cards (for finer granular component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cess View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Use Case Scenario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ystem Wide Concern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95280" y="3716280"/>
            <a:ext cx="1154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5084640"/>
            <a:ext cx="36036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789360"/>
            <a:ext cx="36036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869000"/>
            <a:ext cx="41054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3840" y="3716280"/>
            <a:ext cx="11538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3716280"/>
            <a:ext cx="71280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3840" y="4797360"/>
            <a:ext cx="835344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al areas of work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981000"/>
            <a:ext cx="136692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oice/Vide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SD/GPRS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SD editor/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)SIM Appl. Toolkit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twork settings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one number ed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01080" y="5877000"/>
            <a:ext cx="57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2997360"/>
            <a:ext cx="71892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349360"/>
            <a:ext cx="71892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.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2360" y="4005360"/>
            <a:ext cx="68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M/UM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St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3789360"/>
            <a:ext cx="576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378936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T, IrD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3789360"/>
            <a:ext cx="431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3789360"/>
            <a:ext cx="501840" cy="863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rastruc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3789360"/>
            <a:ext cx="792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tor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459280" y="4508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66920" y="2708280"/>
            <a:ext cx="64764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ex, PC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2340000"/>
            <a:ext cx="648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P Protoc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8000" y="981000"/>
            <a:ext cx="216000" cy="1152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2349360"/>
            <a:ext cx="2876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86200" y="2347920"/>
            <a:ext cx="217440" cy="12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get Li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5636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l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2997360"/>
            <a:ext cx="216000" cy="56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95640" y="981000"/>
            <a:ext cx="5032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S, MMS, Email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p Pus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306864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2349360"/>
            <a:ext cx="50328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981000"/>
            <a:ext cx="505080" cy="1152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, Organiz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rds, Categ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78560" y="3789360"/>
            <a:ext cx="287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ot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4836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3213000"/>
            <a:ext cx="936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i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347920"/>
            <a:ext cx="1223640" cy="7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5640" y="2349360"/>
            <a:ext cx="57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93080" y="2349360"/>
            <a:ext cx="647640" cy="12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 JSR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DC JSR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84720" y="2349360"/>
            <a:ext cx="360360" cy="122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work incl. 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2349360"/>
            <a:ext cx="503280" cy="12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or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2276640"/>
            <a:ext cx="83534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72360" y="328464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67280" y="981000"/>
            <a:ext cx="3603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981000"/>
            <a:ext cx="3621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5280" y="981000"/>
            <a:ext cx="361800" cy="1152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C, VoIP,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0" y="981000"/>
            <a:ext cx="217440" cy="1152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96360" y="981000"/>
            <a:ext cx="215640" cy="1152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 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981000"/>
            <a:ext cx="2156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M Radio/T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0872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m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907920"/>
            <a:ext cx="835344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85080" y="198900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8200" y="3789360"/>
            <a:ext cx="287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47640" y="2349360"/>
            <a:ext cx="2876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ntent Mg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C,Virt. Files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2349360"/>
            <a:ext cx="21600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981000"/>
            <a:ext cx="57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urity A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ck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ertificat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57120" y="1268280"/>
            <a:ext cx="34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084640"/>
            <a:ext cx="71892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e 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4869000"/>
            <a:ext cx="432000" cy="115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play, Camer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ypad,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5084640"/>
            <a:ext cx="3585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5084640"/>
            <a:ext cx="79236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G, 2.5G 3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5084640"/>
            <a:ext cx="50472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68360" y="5084640"/>
            <a:ext cx="8654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 a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86560" y="4869000"/>
            <a:ext cx="360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sor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4869000"/>
            <a:ext cx="432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 H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T, 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87680" y="4869000"/>
            <a:ext cx="1443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ic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ystem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08720" y="4869000"/>
            <a:ext cx="504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VB-H, DAB, D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51640" y="4869000"/>
            <a:ext cx="576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ten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3800" y="2351160"/>
            <a:ext cx="2872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5084640"/>
            <a:ext cx="36036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40720" y="3789360"/>
            <a:ext cx="287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51280" y="2349360"/>
            <a:ext cx="216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. 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08360" y="3789360"/>
            <a:ext cx="719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uch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869000"/>
            <a:ext cx="360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95640" y="3789360"/>
            <a:ext cx="506160" cy="863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3789360"/>
            <a:ext cx="3603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20000" y="4869000"/>
            <a:ext cx="360360" cy="115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3440" y="549360"/>
            <a:ext cx="120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aus Zap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86200" y="2347920"/>
            <a:ext cx="217440" cy="122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get Li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349360"/>
            <a:ext cx="503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16720" y="2349360"/>
            <a:ext cx="503280" cy="122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or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0872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m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13800" y="2351160"/>
            <a:ext cx="28728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2349360"/>
            <a:ext cx="21600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. 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2349360"/>
            <a:ext cx="28764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5636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l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2997360"/>
            <a:ext cx="216000" cy="564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2349360"/>
            <a:ext cx="28764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ntent Mg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C,Virt. Files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58920" y="2349360"/>
            <a:ext cx="216000" cy="57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981000"/>
            <a:ext cx="57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urity A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ck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ertificat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35960" y="549360"/>
            <a:ext cx="120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trich Ol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981000"/>
            <a:ext cx="136692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oice/Vide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SD/GPRS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SD editor/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)SIM Appl. Toolkit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twork settings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one number ed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997360"/>
            <a:ext cx="718920" cy="57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349360"/>
            <a:ext cx="718920" cy="57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.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981000"/>
            <a:ext cx="50328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S, MMS, Email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p Pus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34880" y="549360"/>
            <a:ext cx="130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ald Stöck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93080" y="2349360"/>
            <a:ext cx="647640" cy="122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 JSR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DC JSR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32360" y="549360"/>
            <a:ext cx="114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ven Pa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3214800"/>
            <a:ext cx="86364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3214800"/>
            <a:ext cx="936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i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2349360"/>
            <a:ext cx="1223640" cy="781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35640" y="2351160"/>
            <a:ext cx="576360" cy="79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8200" y="3790800"/>
            <a:ext cx="287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33800" y="549360"/>
            <a:ext cx="111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lf Kais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71640" y="3790800"/>
            <a:ext cx="863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T, IrD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66920" y="2709720"/>
            <a:ext cx="64764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ex, PC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68360" y="2341440"/>
            <a:ext cx="6480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P Protoc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4870440"/>
            <a:ext cx="43200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 H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T, 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4880" y="5493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Kol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56360" y="3789360"/>
            <a:ext cx="79200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tor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78560" y="3789360"/>
            <a:ext cx="287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ot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08360" y="3789360"/>
            <a:ext cx="71928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uch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800" y="549360"/>
            <a:ext cx="140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ürgen Rie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5084640"/>
            <a:ext cx="71892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e 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35240" y="549360"/>
            <a:ext cx="177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s-Georg K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35280" y="5084640"/>
            <a:ext cx="79236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G, 2.5G 3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4869000"/>
            <a:ext cx="50472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VB-H, DAB, D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51640" y="4869000"/>
            <a:ext cx="576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ten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34880" y="549360"/>
            <a:ext cx="138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hard Z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34880" y="549360"/>
            <a:ext cx="180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land Djerm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3789360"/>
            <a:ext cx="431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5084640"/>
            <a:ext cx="35856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58920" y="5084640"/>
            <a:ext cx="50472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86560" y="4869000"/>
            <a:ext cx="360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sor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4869000"/>
            <a:ext cx="360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33800" y="549360"/>
            <a:ext cx="121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rich Hu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00720" y="3789360"/>
            <a:ext cx="57600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4800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67280" y="981000"/>
            <a:ext cx="36036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981000"/>
            <a:ext cx="36216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00720" y="981000"/>
            <a:ext cx="21564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M Radio/T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68360" y="5084640"/>
            <a:ext cx="86544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 a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34880" y="549360"/>
            <a:ext cx="196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hael Scheitha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3068640"/>
            <a:ext cx="50328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6165720"/>
            <a:ext cx="2737080" cy="152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ntionally not in SCA fo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56000" y="6381720"/>
            <a:ext cx="273708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ssing expertise or headcount within S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56000" y="6597720"/>
            <a:ext cx="2737080" cy="152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pic covered by listed SCA employ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40720" y="3789360"/>
            <a:ext cx="28728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ascal Lefevre</cp:lastModifiedBy>
  <dcterms:modified xsi:type="dcterms:W3CDTF">2006-05-15T09:35:05Z</dcterms:modified>
  <cp:revision>177</cp:revision>
  <dc:subject/>
  <dc:title>PowerPoint 簡報</dc:title>
</cp:coreProperties>
</file>